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ftr" idx="5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 type="sldNum" idx="5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509-6BC7-4A61-99CA-94EF0A5D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have to be a genius with the top grades to make it throug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school, YOU JUST HAVE TO BE WILLING TO WORK HAR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91C-132C-4522-B063-D0914C1087EF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HARD in high school/college = short term gains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rest of your financial life will suff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Bad grades equals bad job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HARD in high school/college = long term gain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tudy/dedication to classes has long term financial gain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od grades equals the best job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yourself in high school/colleg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Study hard to make the best gr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Diversify your activities (sports, clubs, honor societies, socia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Volunteer, tutor younger students in your strongest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GET INVOLV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CO-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755F-75EF-4B2C-99DF-69F13D1901F6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is a HIGHLY regarded and relatively HIGHLY compensated career.  Engineers make GREAT salaries relative to the amount of schooling required and the LIFESTYLE off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6175-C91E-4135-ABFA-CE0AC06AF8A1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9AB-1502-4CC0-B40A-457EF47E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5AA-E723-40A3-9606-37095F6F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A5A-A96A-42F1-A0DD-C3CE682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E5C-68DC-4599-82D9-A5C88500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9897-7F14-4B92-A6EA-3055938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632C-BB7B-4D6F-80F5-588A401A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DD97-81F4-4379-8632-84259844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E91FD-AEA4-4E3D-85DC-FFE8CC1D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2635-2B30-4768-88D0-8F429F0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4DAD-7971-45F6-9684-E37688EC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3954-BD1D-44D2-ABF9-42661084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895D4-60B2-4C62-A9AA-87AA0D0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BC9-6F0B-4D32-BABB-25779CF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5D02-C515-4148-807A-02568C3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3E72-D8BC-4348-AF73-8D4E675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B96E-75A9-47A4-9B13-26D416DE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9FD1-3A2A-4B1B-9C53-59E5AB19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29927-B3EC-4DE7-89FD-3C3B87F2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490-4939-4243-B3B0-DED8327C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DEFD-1472-490E-A411-721C8CAE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6D1B-D364-4C32-AD26-1162CEF1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88DA-B380-418C-8C44-B0DADD9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80A14-C760-4301-ABCB-66F74772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3494-A396-44EB-A4B6-712C5567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1752-B4C5-44BC-B3CE-6658960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7B09-608D-46AC-9D3C-F5EDBB7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9DE7-471C-41A0-A38B-B4013D5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A6E2-068F-48E0-AB0A-0C76A09B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4E27-DB7F-4912-864C-7DD2928C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CB60-80FA-4CD4-B1AB-BFEFC3E3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002B-D19C-4ACF-BD6A-B3145554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DBA8-D45F-44C7-9E12-26B7625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34C-E090-446D-AC6E-03009ABE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2CD8-5FE2-4A97-9DDC-C6305F11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AE7B-D8AA-4426-9E64-AD08DC07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116A-5B44-4BCB-8008-AF834E3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40E97-8F3A-4F53-B3E8-82462BA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E4B1-6CA9-491E-9699-5E659CE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98CA-58C2-47B4-98DE-626FF19F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83DB9-BEC8-4839-8104-DF8502A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4D87-91A3-4AD2-A5FB-CB06BF36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786C-E812-45DC-B4A6-325DAB9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892C-1BEB-4E1D-BFC5-F56D098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3E6-6D71-4388-9110-4B75B24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F3F92-7190-498F-A43F-D2CB0D18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CEDD-D576-4136-94B5-37B2B002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F350-ADED-4320-846B-69B67234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9E472-B6CE-4DE7-9647-490EA372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15707-2BF0-440C-BF8C-A7E4D38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40D28-5BCC-4B71-B480-C1512A5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6D550-13A3-448A-81F7-8AA9347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62DC8-067D-4590-ACEB-5D657838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A7F62-9427-40A8-AEF6-35E4112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DE878-F528-4A19-8262-BFEBFF6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B9B-79AB-400B-9F36-2389414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CEF2-7058-4A27-881D-B92FFF8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1947-8BB6-4EC1-B129-76F5BC9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84042-F5D6-4A28-A7C2-E635127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59CA2-5C67-4207-A187-48D1069E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78D0D-5426-4777-9501-5A555001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BB629-DE2F-4398-82C5-976DE18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754B-BAD1-4631-868E-07B9624F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B5525-F06C-4CEF-BF09-8AC4BD39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9F07-567C-49DD-9ABC-723D8C4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AB38B-66F9-41FA-A660-49C33F2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9E3C1-8A3D-46CE-8E92-4C1E768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68D4-29B5-4480-9A48-C69255E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8A70-C755-4312-8972-FC06EEA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45753-7EF8-45DF-B97B-C940980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7B79A-AE89-4318-AD38-C7EDF4C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9F1A-F3C6-4598-A4AB-454AAC7C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9AF4F-110C-4AB3-BF1A-BEB125D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17348-5490-4ADF-88D5-9DBB795A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7A8E9-B117-4EF7-8E6D-6F6BB6FF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1C92-556B-4EBA-9601-0228E80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AAC1D-CE6C-4F26-85C5-DA7D21FB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A6EF-7480-4B26-AF15-BABB9B5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DC2-221A-44C4-8023-91A86CB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10159-DEFB-4527-B302-EC91627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7A850-E215-4862-AFAA-E8554545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20C06-9D8E-45B4-94DB-CB26F1A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783F8-BD83-41AF-B05F-E9945DFE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F947-72BA-4A82-9C0A-8CA0202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F5189-B117-41EE-809C-0D3A1BFF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0F3E3-BCF1-4B90-83E9-EC13449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0990F-0E6B-42E3-BD83-C37B5C81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F505B-6E9C-42B1-8C98-C69B6AAF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03173-1BE7-40E9-80B2-CF01B22D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CAA-37C1-4CAF-8F23-E01CDAD7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5C88A-B417-4017-9DF4-ED29F20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CD767-0A11-440F-B9F8-688DA40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B074-631E-45EC-8105-FBC6D1D9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30B39-642F-450A-84D7-620BB9F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0D63F-011D-4239-B114-BFB4648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217A-D556-4025-8FC2-8E7B0BA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2926-0E1A-4842-A332-F04C4E7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AFF9-8BF3-48C6-8B74-D974A38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5067D-8BCF-4A2A-B394-AFFA287F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EF82-78AD-4A03-BEDC-3F7D9D7F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5BBE-E140-4691-8CE9-9ADCD10B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3E4C1-7686-43F5-A022-D1CFC6F4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C9720-5F40-4E4C-A03C-EC952AEF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DC953-F558-4AE0-942D-E744035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1A799-331F-4BFA-B564-ACDA45D6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620EC-09C7-46A8-B6F6-0CC52C5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A12F4-2E51-4679-BEE1-CC0ACD1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020B9-3A64-41AB-9B16-36A4014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1FEDF-7E75-494A-AE91-6890CF9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E6175-CCC5-4300-9738-EE7C7C2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15951-AE8C-4834-878C-FBBFAD2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A66B-C36A-4A63-87D6-BEE88159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F399E-6583-4454-86B1-D7EE606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F87C4-9DB6-416D-98E7-35B9CFB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8007D-4058-4071-9D87-411D3F07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B51A84-4FA4-4028-9722-4F4298A0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4FDE85-48F6-4A5F-BE63-BD08082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B38587-7944-4585-99F3-DE827BDC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C7CFFD-699E-4232-B0F0-FE3D475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90F3F6-50FE-49E9-8854-F34E0BF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1B02DD-3DCA-4DC4-9225-7562930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94CC38-2D00-462E-87C0-441A52D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EA21-B7BF-48AA-B15A-3E179BA7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E81495-CAF6-4FC5-A657-39292A5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9D0E44-A3D9-4CF1-AEB9-61BF529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DC5EE0-09A0-4EE9-AB10-2BEC120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9CA249-EFDC-4E91-96BD-A65C9E7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73FC45-E3CA-4B69-BF14-A656B0AC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1291D8-6681-41AC-A580-D58F8E67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072763-5719-4638-BD40-E8C0292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C4D498-D01C-4EE0-9B43-E70637D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8E69E9-8F9C-4C26-BE55-5EB1FE7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96C8F7-DB6F-4F12-8437-FD0B1DDB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3CE1-478F-407B-8D6B-ED54F72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86BC6D-07D5-4570-B35D-17FDB0B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B47D65-E533-4552-A315-CF6959F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430E91-E8B2-412C-868E-7DDC2747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4DAF11-65C6-46BB-AFA2-EFBC2A4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827CBB-9D52-4650-8A2B-3B6EB9E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E55357-89A4-4E0F-8A9F-BEADFCCF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9B2661-EFD2-4A79-AFC7-64D42D40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B8643-4A8C-402C-BC39-02E4F7CE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04629-AB93-4711-8344-5F178230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557AF-83CD-4536-B782-7167F8CF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E8A9-989A-49C6-8E37-7DF12BE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BA8D8-2F62-44EF-905A-F11E1B8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3946F-5105-4F7C-B06C-3BD34EB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1302C-A4EC-4ABB-BDE0-2E5E492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8C610-B86A-4864-8F6E-E6BAAE9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EE3AE-ACB2-431A-B760-3D98122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ACC95-4C02-4A9B-843A-31EAB563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AC751-6482-4D65-A443-1DAE3D54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FE5DC-4502-4F13-BAAD-5B0F4F6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4AA58-1BFD-43F9-BC40-A3CB895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A5B0B1-7102-4EE2-B771-6BD2F8D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21AE-CF8C-49D5-8BC9-B3D45F09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6EF316-58D2-4190-B526-F7E38DC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87BB0A-1020-4FB2-ACD0-33EF852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43F582-D613-4249-BA24-3175B74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B8D17B-CEE6-4AA0-9656-2D13F27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899823-FC75-4E18-8D93-031B2D0D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7B69B2-2821-4F83-90A1-080A25F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5F9719-3339-48F0-B686-8949C54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19B835-E940-4276-8ED4-3AC17BE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60B6C7-FD31-464A-95E6-8D283CE3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486D19-3982-4A46-8609-2C1A8E4C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5F5-F4F7-4ED1-9110-6EFC471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3CC7-3CCA-46C8-826B-044D09C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C1B1C0-B9CD-450A-AB89-F9ACBD0F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2474-6CE6-46A4-9305-85D160E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CB2A-64AA-4CCC-8C79-D26A008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9607-BF89-450D-A2F1-3CEA7FF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F8A9-F2B1-4184-929C-7B76CF7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508F-23BF-4D6B-814C-13B693ED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0F7B-2ABA-4090-AA3B-8E4B4198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7358-AECA-43CB-B709-7539262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0DEB2-4991-4C9F-A5FF-09A941B8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617A-18ED-4C68-922B-3DAC817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458-D63D-49BF-AE40-465C9C9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B3EF-F061-4D44-882D-20783689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F0F0-786F-43F7-8DBB-04D6E4C2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5F30-0D6A-49F6-8176-2B002DC3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C120-95F1-4FDA-B368-4A249D1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FBAE-C9E5-497E-8213-E37CEA7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2C06-9638-46D1-AA06-EA6962E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CC48-4426-4C04-BBA3-4928B54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B84B-B5BA-4603-802B-351C70EB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BA55-80E8-4A51-AB47-63B4577A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370B-127C-452A-9EA6-80CE0607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34F-ED3D-431E-8AFC-0B60A46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B750-E983-4B28-B7A0-1E12C6A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09AC-FA43-426B-92D8-E8E0269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436A-2837-44D8-8EBB-D1FC03C1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23F8-0A11-4553-A6C2-7785AE3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97F9-B3FE-43C0-8825-F37271E4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9414-9DAA-4553-BF90-0A2ED17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5091-002F-426B-9C82-666AF37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0B85-D8E7-4ECC-BBD7-E155535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6A4D-ECCE-4193-B7E3-1D0F06C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4D2A-F738-4137-A6D1-215C502F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392-5E88-4333-A5A0-50069207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AF8C-339E-4576-8D10-0E510506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867-17E0-4C82-A57E-77A7995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F71-7DD2-46D0-9500-C06A26A7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A4F-1C65-456E-9E42-2D2ABB0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lue small"/>
          <p:cNvPicPr/>
          <p:nvPr/>
        </p:nvPicPr>
        <p:blipFill>
          <a:blip r:embed="rId2"/>
          <a:stretch/>
        </p:blipFill>
        <p:spPr>
          <a:xfrm>
            <a:off x="0" y="5238720"/>
            <a:ext cx="9144000" cy="16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00656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930-2FAA-4398-B1C1-A3ADE5D5F9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6381720"/>
            <a:ext cx="167328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small gray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384120"/>
            <a:ext cx="1673280" cy="249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7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8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F7D9-1EF7-483A-9E2A-37D24EE3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2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3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5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6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8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9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B01-396C-4B8D-928B-5EA6575211C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2C4-5A33-4C78-85BE-F4898843E2D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3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4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5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6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7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9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0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1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2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226-0558-4A10-8277-FE2B734E05F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2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2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623C-C674-45F4-98F2-9B467E5C8A5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5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6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1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3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4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367-E926-4A3C-995F-313C1997639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blue small section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35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9D65-3AC4-4C14-A654-0738E6287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Eastman_PNG.png"/>
          <p:cNvPicPr/>
          <p:nvPr/>
        </p:nvPicPr>
        <p:blipFill>
          <a:blip r:embed="rId3"/>
          <a:stretch/>
        </p:blipFill>
        <p:spPr>
          <a:xfrm>
            <a:off x="7178760" y="380880"/>
            <a:ext cx="167328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1BA-9C15-4AF5-AFBE-1E94898B113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7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8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1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9F7-E223-482A-A3BA-6C20F0F57F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6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8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9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6E84-2307-45C5-BAD8-D4FA74254E9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8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1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3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4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sldNum" idx="4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44A-F1D6-4F55-B4FA-810C24E9DBD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dt" idx="4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ftr" idx="4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3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CED-C35E-4FA9-A025-088BD737A45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0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1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2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3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4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5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Num" idx="4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4D7-7B2B-4711-95C9-561D452CFC0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5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mall gray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67DF-9307-4F22-B8E8-261358BD3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384120"/>
            <a:ext cx="167328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blue 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8A3-AD02-423D-8DC2-2EAE4B23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" descr="Eastman_PNG.png"/>
          <p:cNvPicPr/>
          <p:nvPr/>
        </p:nvPicPr>
        <p:blipFill>
          <a:blip r:embed="rId3"/>
          <a:stretch/>
        </p:blipFill>
        <p:spPr>
          <a:xfrm>
            <a:off x="7178760" y="380880"/>
            <a:ext cx="167328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9BE9-1DCA-4900-A1B2-BE358CD19FE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4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itle 1"/>
          <p:cNvSpPr/>
          <p:nvPr/>
        </p:nvSpPr>
        <p:spPr>
          <a:xfrm>
            <a:off x="685800" y="969840"/>
            <a:ext cx="77724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f81bd"/>
                </a:solidFill>
                <a:latin typeface="Arial"/>
                <a:ea typeface="Arial"/>
              </a:rPr>
              <a:t>What is Engineering?</a:t>
            </a:r>
            <a:endParaRPr b="0" lang="en-US" sz="42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45" name="TextBox 2"/>
          <p:cNvSpPr/>
          <p:nvPr/>
        </p:nvSpPr>
        <p:spPr>
          <a:xfrm>
            <a:off x="5699160" y="58910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Engineering Week 2011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6"/>
          <p:cNvSpPr/>
          <p:nvPr/>
        </p:nvSpPr>
        <p:spPr>
          <a:xfrm>
            <a:off x="304560" y="235080"/>
            <a:ext cx="360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ivi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0" name="Rectangle 8"/>
          <p:cNvSpPr/>
          <p:nvPr/>
        </p:nvSpPr>
        <p:spPr>
          <a:xfrm>
            <a:off x="281160" y="1093680"/>
            <a:ext cx="470520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reate solutions to cope with:</a:t>
            </a: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issu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ing cities, roadways and bridg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gged airports and highway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ed streams, rivers and lak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1" name="Rectangle 8"/>
          <p:cNvSpPr/>
          <p:nvPr/>
        </p:nvSpPr>
        <p:spPr>
          <a:xfrm>
            <a:off x="468360" y="5446800"/>
            <a:ext cx="8324640" cy="7038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solutions to cope with many of our planet’s most serious problems.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92" name="Picture 9" descr="C:\Users\u770837\AppData\Local\Microsoft\Windows\Temporary Internet Files\Low\Content.IE5\BWYO7QX7\82558026[2].jpg"/>
          <p:cNvPicPr/>
          <p:nvPr/>
        </p:nvPicPr>
        <p:blipFill>
          <a:blip r:embed="rId1"/>
          <a:stretch/>
        </p:blipFill>
        <p:spPr>
          <a:xfrm>
            <a:off x="5730840" y="1093680"/>
            <a:ext cx="24145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6"/>
          <p:cNvSpPr/>
          <p:nvPr/>
        </p:nvSpPr>
        <p:spPr>
          <a:xfrm>
            <a:off x="245160" y="235080"/>
            <a:ext cx="4601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Industri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4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344520" y="965160"/>
            <a:ext cx="440856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data processing syst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activities of finance, engineering and management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ystems for planning, cost analysis, production and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63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quality of product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6" name="Rectangle 13"/>
          <p:cNvSpPr/>
          <p:nvPr/>
        </p:nvSpPr>
        <p:spPr>
          <a:xfrm>
            <a:off x="468360" y="5299200"/>
            <a:ext cx="8324640" cy="100872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sses design, improvement, and installation of integrated systems of people, material, and equipment for the effective production of goods or services in all types of industri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97" name="Picture 12" descr="C:\Users\u770837\AppData\Local\Microsoft\Windows\Temporary Internet Files\Low\Content.IE5\BWYO7QX7\87461647[3].jpg"/>
          <p:cNvPicPr/>
          <p:nvPr/>
        </p:nvPicPr>
        <p:blipFill>
          <a:blip r:embed="rId1"/>
          <a:stretch/>
        </p:blipFill>
        <p:spPr>
          <a:xfrm>
            <a:off x="5184720" y="1446120"/>
            <a:ext cx="31291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9" descr="http://168.136.161.196/netpub/server.np?original=17709&amp;site=Image_Search&amp;catalog=catalog"/>
          <p:cNvPicPr/>
          <p:nvPr/>
        </p:nvPicPr>
        <p:blipFill>
          <a:blip r:embed="rId1"/>
          <a:srcRect l="16806" t="6111" r="16080" b="6557"/>
          <a:stretch/>
        </p:blipFill>
        <p:spPr>
          <a:xfrm>
            <a:off x="4710240" y="1946160"/>
            <a:ext cx="4168800" cy="3613320"/>
          </a:xfrm>
          <a:prstGeom prst="rect">
            <a:avLst/>
          </a:prstGeom>
          <a:ln w="0">
            <a:noFill/>
          </a:ln>
        </p:spPr>
      </p:pic>
      <p:sp>
        <p:nvSpPr>
          <p:cNvPr id="1199" name="Text Box 6"/>
          <p:cNvSpPr/>
          <p:nvPr/>
        </p:nvSpPr>
        <p:spPr>
          <a:xfrm>
            <a:off x="286920" y="235080"/>
            <a:ext cx="534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Good Traits for Engineers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1143000" y="1371600"/>
            <a:ext cx="7265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366840" y="958680"/>
            <a:ext cx="644832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Enjoy solving problem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Like working with other people (strong teamwork skills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Interested in serving human need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Want to make things work better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ive for continual improvement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Able to adapt to a changing environment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Good communication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ong study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Desire to constantly learn new thing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Data analysis skills 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ong computer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1030"/>
          <p:cNvSpPr/>
          <p:nvPr/>
        </p:nvSpPr>
        <p:spPr>
          <a:xfrm>
            <a:off x="214560" y="257040"/>
            <a:ext cx="651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llege Entrance Requirements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15960" y="1046160"/>
          <a:ext cx="7623000" cy="2225520"/>
        </p:xfrm>
        <a:graphic>
          <a:graphicData uri="http://schemas.openxmlformats.org/drawingml/2006/table">
            <a:tbl>
              <a:tblPr/>
              <a:tblGrid>
                <a:gridCol w="3811680"/>
                <a:gridCol w="381132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 I &amp; II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gonome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u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s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 Programm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al Studi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ign Languag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e Arts/Humaniti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4" name=""/>
          <p:cNvGraphicFramePr/>
          <p:nvPr/>
        </p:nvGraphicFramePr>
        <p:xfrm>
          <a:off x="620640" y="3643200"/>
          <a:ext cx="7623360" cy="1113120"/>
        </p:xfrm>
        <a:graphic>
          <a:graphicData uri="http://schemas.openxmlformats.org/drawingml/2006/table">
            <a:tbl>
              <a:tblPr/>
              <a:tblGrid>
                <a:gridCol w="3811680"/>
                <a:gridCol w="381168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ly Recommended – Not Required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Chemis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Physic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Calculus 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Biolog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05" name="TextBox 14"/>
          <p:cNvSpPr/>
          <p:nvPr/>
        </p:nvSpPr>
        <p:spPr>
          <a:xfrm>
            <a:off x="477720" y="5327640"/>
            <a:ext cx="825192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y Advanced Placement classes really help prepare you for college and in most cases drastically help “lighten your load.”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6"/>
          <p:cNvSpPr/>
          <p:nvPr/>
        </p:nvSpPr>
        <p:spPr>
          <a:xfrm>
            <a:off x="426240" y="246240"/>
            <a:ext cx="318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llege Advice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7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8" name="Rectangle 13"/>
          <p:cNvSpPr/>
          <p:nvPr/>
        </p:nvSpPr>
        <p:spPr>
          <a:xfrm>
            <a:off x="731880" y="4735440"/>
            <a:ext cx="800100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ext 2-3 years in high school and especially the following 4-8 years in college drastically impact the quality of your adult life!!!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209" name="Picture 2" descr="C:\Users\u770837\AppData\Local\Microsoft\Windows\Temporary Internet Files\Low\Content.IE5\NQHDIBVV\87715729[1].jpg"/>
          <p:cNvPicPr/>
          <p:nvPr/>
        </p:nvPicPr>
        <p:blipFill>
          <a:blip r:embed="rId1"/>
          <a:srcRect l="0" t="0" r="-6436" b="0"/>
          <a:stretch/>
        </p:blipFill>
        <p:spPr>
          <a:xfrm>
            <a:off x="500040" y="1187280"/>
            <a:ext cx="3635280" cy="2271960"/>
          </a:xfrm>
          <a:prstGeom prst="rect">
            <a:avLst/>
          </a:prstGeom>
          <a:ln w="0">
            <a:noFill/>
          </a:ln>
        </p:spPr>
      </p:pic>
      <p:pic>
        <p:nvPicPr>
          <p:cNvPr id="1210" name="TextBox 11" descr=""/>
          <p:cNvPicPr/>
          <p:nvPr/>
        </p:nvPicPr>
        <p:blipFill>
          <a:blip r:embed="rId2"/>
          <a:stretch/>
        </p:blipFill>
        <p:spPr>
          <a:xfrm>
            <a:off x="628560" y="3333600"/>
            <a:ext cx="3048120" cy="1019160"/>
          </a:xfrm>
          <a:prstGeom prst="rect">
            <a:avLst/>
          </a:prstGeom>
          <a:ln w="0">
            <a:noFill/>
          </a:ln>
        </p:spPr>
      </p:pic>
      <p:pic>
        <p:nvPicPr>
          <p:cNvPr id="1211" name="TextBox 13" descr=""/>
          <p:cNvPicPr/>
          <p:nvPr/>
        </p:nvPicPr>
        <p:blipFill>
          <a:blip r:embed="rId3"/>
          <a:stretch/>
        </p:blipFill>
        <p:spPr>
          <a:xfrm>
            <a:off x="6072120" y="3333600"/>
            <a:ext cx="2644920" cy="10191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" descr="C:\Users\u770837\AppData\Local\Microsoft\Windows\Temporary Internet Files\Low\Content.IE5\5K9T5FMV\78655190[1].jpg"/>
          <p:cNvPicPr/>
          <p:nvPr/>
        </p:nvPicPr>
        <p:blipFill>
          <a:blip r:embed="rId4"/>
          <a:srcRect l="0" t="0" r="5380" b="0"/>
          <a:stretch/>
        </p:blipFill>
        <p:spPr>
          <a:xfrm>
            <a:off x="5486400" y="1123920"/>
            <a:ext cx="3232080" cy="2271600"/>
          </a:xfrm>
          <a:prstGeom prst="rect">
            <a:avLst/>
          </a:prstGeom>
          <a:ln w="0">
            <a:noFill/>
          </a:ln>
        </p:spPr>
      </p:pic>
      <p:pic>
        <p:nvPicPr>
          <p:cNvPr id="1213" name="Rectangle 15" descr=""/>
          <p:cNvPicPr/>
          <p:nvPr/>
        </p:nvPicPr>
        <p:blipFill>
          <a:blip r:embed="rId5"/>
          <a:stretch/>
        </p:blipFill>
        <p:spPr>
          <a:xfrm>
            <a:off x="4237200" y="3333600"/>
            <a:ext cx="1468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6"/>
          <p:cNvSpPr/>
          <p:nvPr/>
        </p:nvSpPr>
        <p:spPr>
          <a:xfrm>
            <a:off x="284040" y="277920"/>
            <a:ext cx="4745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operative Education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15" name="Rectangle 13"/>
          <p:cNvSpPr/>
          <p:nvPr/>
        </p:nvSpPr>
        <p:spPr>
          <a:xfrm>
            <a:off x="657360" y="1003320"/>
            <a:ext cx="8001000" cy="69984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a five year program with alternating periods of book learning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chool) and application (work, typically in industry).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615960" y="1971720"/>
          <a:ext cx="8028000" cy="2225520"/>
        </p:xfrm>
        <a:graphic>
          <a:graphicData uri="http://schemas.openxmlformats.org/drawingml/2006/table">
            <a:tbl>
              <a:tblPr/>
              <a:tblGrid>
                <a:gridCol w="2006640"/>
                <a:gridCol w="2008080"/>
                <a:gridCol w="2006640"/>
                <a:gridCol w="2006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mme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7" name="Rectangle 8"/>
          <p:cNvSpPr/>
          <p:nvPr/>
        </p:nvSpPr>
        <p:spPr>
          <a:xfrm>
            <a:off x="500040" y="4406760"/>
            <a:ext cx="81979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Arial"/>
              </a:rPr>
              <a:t>Benefits of a Cooperative Education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Pay for your college education ($36,000/YR or more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Gain valuable experience, real engineering work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Increase your market value at graduation (considerably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Usually assures job offer from co-op compan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Offers well deserved and beneficial break from school!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6"/>
          <p:cNvSpPr/>
          <p:nvPr/>
        </p:nvSpPr>
        <p:spPr>
          <a:xfrm>
            <a:off x="401760" y="225360"/>
            <a:ext cx="209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Summary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220" name="Diagram 6" descr=""/>
          <p:cNvPicPr/>
          <p:nvPr/>
        </p:nvPicPr>
        <p:blipFill>
          <a:blip r:embed="rId1"/>
          <a:stretch/>
        </p:blipFill>
        <p:spPr>
          <a:xfrm>
            <a:off x="463680" y="1011240"/>
            <a:ext cx="8399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Introduction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1147" name="Diagram 5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7986960" cy="46688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6" descr="View Organization Drill-Down with PAUL W. KETCHUM at top."/>
          <p:cNvPicPr/>
          <p:nvPr/>
        </p:nvPicPr>
        <p:blipFill>
          <a:blip r:embed="rId2"/>
          <a:stretch/>
        </p:blipFill>
        <p:spPr>
          <a:xfrm>
            <a:off x="1062000" y="173988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8" descr="View Organization Drill-Down with JAYME R LEITA at top."/>
          <p:cNvPicPr/>
          <p:nvPr/>
        </p:nvPicPr>
        <p:blipFill>
          <a:blip r:embed="rId3"/>
          <a:stretch/>
        </p:blipFill>
        <p:spPr>
          <a:xfrm>
            <a:off x="2968560" y="178128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View Organization Drill-Down with GREGORY A WELLMAN JR at top."/>
          <p:cNvPicPr/>
          <p:nvPr/>
        </p:nvPicPr>
        <p:blipFill>
          <a:blip r:embed="rId4"/>
          <a:stretch/>
        </p:blipFill>
        <p:spPr>
          <a:xfrm>
            <a:off x="4946760" y="181764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6" descr="http://www.tnengineering.net/eweek/images/Committee/regan.jpg"/>
          <p:cNvPicPr/>
          <p:nvPr/>
        </p:nvPicPr>
        <p:blipFill>
          <a:blip r:embed="rId5"/>
          <a:stretch/>
        </p:blipFill>
        <p:spPr>
          <a:xfrm>
            <a:off x="6838920" y="1803240"/>
            <a:ext cx="1209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hat is engineering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rding to Webster’s Dictionary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application of math and science by which the properties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f matter and the sources of energy in nature are made useful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peopl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3062160" y="776160"/>
            <a:ext cx="575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ngineers apply math and science for the betterment of society through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55" name="Diagram 20" descr=""/>
          <p:cNvPicPr/>
          <p:nvPr/>
        </p:nvPicPr>
        <p:blipFill>
          <a:blip r:embed="rId1"/>
          <a:stretch/>
        </p:blipFill>
        <p:spPr>
          <a:xfrm>
            <a:off x="3048120" y="1590840"/>
            <a:ext cx="5767200" cy="373032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22"/>
          <p:cNvSpPr/>
          <p:nvPr/>
        </p:nvSpPr>
        <p:spPr>
          <a:xfrm>
            <a:off x="3041640" y="5372280"/>
            <a:ext cx="5719680" cy="916920"/>
          </a:xfrm>
          <a:prstGeom prst="rect">
            <a:avLst/>
          </a:prstGeom>
          <a:solidFill>
            <a:srgbClr val="ffffff"/>
          </a:solidFill>
          <a:ln w="1152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all, engineers are problem solvers who make things work better, more efficiently, quicker and cheaper. 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1"/>
          <p:cNvSpPr/>
          <p:nvPr/>
        </p:nvSpPr>
        <p:spPr>
          <a:xfrm>
            <a:off x="223920" y="138240"/>
            <a:ext cx="85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a44d"/>
                </a:solidFill>
                <a:latin typeface="Arial"/>
                <a:ea typeface="Arial"/>
              </a:rPr>
              <a:t>Salary Comparisons </a:t>
            </a:r>
            <a:endParaRPr b="0" lang="en-US" sz="2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106200" y="758880"/>
          <a:ext cx="8985240" cy="5927760"/>
        </p:xfrm>
        <a:graphic>
          <a:graphicData uri="http://schemas.openxmlformats.org/drawingml/2006/table">
            <a:tbl>
              <a:tblPr/>
              <a:tblGrid>
                <a:gridCol w="2308320"/>
                <a:gridCol w="1486080"/>
                <a:gridCol w="1744560"/>
                <a:gridCol w="1515960"/>
                <a:gridCol w="19303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eer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ge (years)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Salary*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ly Rate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(thousands)**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Food Cook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8,2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.76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metolog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7,0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3.0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 Mechanic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7,8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8.2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to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3,10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.5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3,2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.80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 Therap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6,2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6.64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2,74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4.9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terinarian 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0,11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3.3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an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7,4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.4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ered Nurse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6,5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1.99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6,6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1.2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 Programm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4,69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5.9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omputer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91,54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4.0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Mechan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0,5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38.74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lectr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6,25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1.4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ivi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1,1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39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hem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91,6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4.0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etroleum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19,96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7.6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l Docto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68,55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1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wy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9,0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2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9" name="AutoShape 8"/>
          <p:cNvSpPr/>
          <p:nvPr/>
        </p:nvSpPr>
        <p:spPr>
          <a:xfrm>
            <a:off x="8359920" y="4413240"/>
            <a:ext cx="539640" cy="544680"/>
          </a:xfrm>
          <a:prstGeom prst="upArrow">
            <a:avLst>
              <a:gd name="adj1" fmla="val 46667"/>
              <a:gd name="adj2" fmla="val 54102"/>
            </a:avLst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8162640" y="4925880"/>
            <a:ext cx="10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464"/>
                </a:solidFill>
                <a:latin typeface="Arial"/>
                <a:ea typeface="Arial"/>
              </a:rPr>
              <a:t>Higher Factor</a:t>
            </a:r>
            <a:endParaRPr b="0" lang="en-US" sz="11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464"/>
                </a:solidFill>
                <a:latin typeface="Arial"/>
                <a:ea typeface="Arial"/>
              </a:rPr>
              <a:t>Is Better!</a:t>
            </a:r>
            <a:endParaRPr b="0" lang="en-US" sz="11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4043880" y="196920"/>
            <a:ext cx="495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46464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646464"/>
                </a:solidFill>
                <a:latin typeface="Arial"/>
              </a:rPr>
              <a:t>Average</a:t>
            </a: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 salaries from May 2009, Bureau of Labor Statistics Website </a:t>
            </a:r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**Factor is average salary / years of college</a:t>
            </a:r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 Box 6"/>
          <p:cNvSpPr/>
          <p:nvPr/>
        </p:nvSpPr>
        <p:spPr>
          <a:xfrm>
            <a:off x="1798200" y="341280"/>
            <a:ext cx="55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Earning Potential vs. Minimum Wage</a:t>
            </a: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3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4" name="Rectangle 8"/>
          <p:cNvSpPr/>
          <p:nvPr/>
        </p:nvSpPr>
        <p:spPr>
          <a:xfrm>
            <a:off x="149400" y="6097680"/>
            <a:ext cx="883584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ers have high earning potentials over the course of their career. Since 2000, engineering salaries have increased by ~35%.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165" name="Object 10"/>
          <p:cNvGraphicFramePr/>
          <p:nvPr/>
        </p:nvGraphicFramePr>
        <p:xfrm>
          <a:off x="334800" y="785880"/>
          <a:ext cx="81964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785880"/>
                    <a:ext cx="8196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Rectangle 11"/>
          <p:cNvSpPr/>
          <p:nvPr/>
        </p:nvSpPr>
        <p:spPr>
          <a:xfrm>
            <a:off x="2514600" y="518148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464"/>
                </a:solidFill>
                <a:latin typeface="Arial"/>
              </a:rPr>
              <a:t>Years AFTER H.S. Graduation (based on 1998 salary data)</a:t>
            </a:r>
            <a:endParaRPr b="0" lang="en-US" sz="1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4160" y="69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Engineering Disciplin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ajor Disciplin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835160" y="14950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ther Disciplin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TextBox 16"/>
          <p:cNvSpPr/>
          <p:nvPr/>
        </p:nvSpPr>
        <p:spPr>
          <a:xfrm>
            <a:off x="287280" y="2541600"/>
            <a:ext cx="412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Mechan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Electr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Chem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Civi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Industri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3" name="TextBox 17"/>
          <p:cNvSpPr/>
          <p:nvPr/>
        </p:nvSpPr>
        <p:spPr>
          <a:xfrm>
            <a:off x="4724280" y="2513160"/>
            <a:ext cx="4125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utomotiv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erospac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gricultur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Biomed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ar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otic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fety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6"/>
          <p:cNvSpPr/>
          <p:nvPr/>
        </p:nvSpPr>
        <p:spPr>
          <a:xfrm>
            <a:off x="271440" y="171360"/>
            <a:ext cx="4975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Mechan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6" name="Rectangle 8"/>
          <p:cNvSpPr/>
          <p:nvPr/>
        </p:nvSpPr>
        <p:spPr>
          <a:xfrm>
            <a:off x="385920" y="839880"/>
            <a:ext cx="50479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Concerned with design, manufacture &amp; operation of a wide range of components, devices, or systems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c parts (nanotechnology) to   gigantic gear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ventilation, refrigeration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equipment (tanks, motors, pumps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technolog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cal application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otive industr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aided design, automation, robotic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7" name="Rectangle 11"/>
          <p:cNvSpPr/>
          <p:nvPr/>
        </p:nvSpPr>
        <p:spPr>
          <a:xfrm>
            <a:off x="500040" y="5805360"/>
            <a:ext cx="8261280" cy="39888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est of all the engineering disciplines in its range of activiti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78" name="Picture 13" descr="http://168.136.161.196/netpub/server.np?original=10802&amp;site=Image_Search&amp;catalog=catalog"/>
          <p:cNvPicPr/>
          <p:nvPr/>
        </p:nvPicPr>
        <p:blipFill>
          <a:blip r:embed="rId1"/>
          <a:stretch/>
        </p:blipFill>
        <p:spPr>
          <a:xfrm>
            <a:off x="5576760" y="787320"/>
            <a:ext cx="30416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3"/>
          <p:cNvSpPr/>
          <p:nvPr/>
        </p:nvSpPr>
        <p:spPr>
          <a:xfrm>
            <a:off x="288360" y="225360"/>
            <a:ext cx="4580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hem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868320" y="5703840"/>
            <a:ext cx="7765920" cy="39888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ying chemistry to the solution of practical probl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427320" y="928800"/>
            <a:ext cx="498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solin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stic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(natural gas, oil heating, coal)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hesiv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thing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 Materials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82" name="Picture 16" descr="http://168.136.161.196/netpub/server.np?original=13938&amp;site=Image_Search&amp;catalog=catalog"/>
          <p:cNvPicPr/>
          <p:nvPr/>
        </p:nvPicPr>
        <p:blipFill>
          <a:blip r:embed="rId1"/>
          <a:srcRect l="0" t="29671" r="0" b="0"/>
          <a:stretch/>
        </p:blipFill>
        <p:spPr>
          <a:xfrm>
            <a:off x="3429000" y="2104920"/>
            <a:ext cx="537696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3"/>
          <p:cNvSpPr/>
          <p:nvPr/>
        </p:nvSpPr>
        <p:spPr>
          <a:xfrm>
            <a:off x="279000" y="235080"/>
            <a:ext cx="457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Electr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4" name="Rectangle 4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71600" y="965160"/>
            <a:ext cx="48132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Play a role in almost everything w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interact with on a daily basis.  They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design smaller, cheaper, and better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yst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s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6" name="Rectangle 9"/>
          <p:cNvSpPr/>
          <p:nvPr/>
        </p:nvSpPr>
        <p:spPr>
          <a:xfrm>
            <a:off x="468360" y="5446800"/>
            <a:ext cx="8324640" cy="7038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y specialized skill to the design, manufacture, application, installation, and operation of electrical products and systems.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87" name="Picture 11" descr="http://168.136.161.196/netpub/server.np?original=15934&amp;site=Image_Search&amp;catalog=catalog"/>
          <p:cNvPicPr/>
          <p:nvPr/>
        </p:nvPicPr>
        <p:blipFill>
          <a:blip r:embed="rId1"/>
          <a:srcRect l="0" t="11084" r="0" b="8183"/>
          <a:stretch/>
        </p:blipFill>
        <p:spPr>
          <a:xfrm>
            <a:off x="5353200" y="1009800"/>
            <a:ext cx="3052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34:42Z</dcterms:created>
  <dc:creator>Eastman</dc:creator>
  <dc:description/>
  <dc:language>en-US</dc:language>
  <cp:lastModifiedBy>walmart</cp:lastModifiedBy>
  <dcterms:modified xsi:type="dcterms:W3CDTF">2014-03-21T12:19:44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CMExceptionNumber">
    <vt:lpwstr/>
  </property>
  <property fmtid="{D5CDD505-2E9C-101B-9397-08002B2CF9AE}" pid="3" name="ECMLegalHold">
    <vt:lpwstr/>
  </property>
  <property fmtid="{D5CDD505-2E9C-101B-9397-08002B2CF9AE}" pid="4" name="ECMLegalHoldNumber">
    <vt:lpwstr/>
  </property>
  <property fmtid="{D5CDD505-2E9C-101B-9397-08002B2CF9AE}" pid="5" name="ECMOwner">
    <vt:lpwstr/>
  </property>
  <property fmtid="{D5CDD505-2E9C-101B-9397-08002B2CF9AE}" pid="6" name="ECMRecordsMgmtException">
    <vt:lpwstr/>
  </property>
</Properties>
</file>